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3226-5377-4A9E-A423-F819FCBB6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BC52-AD6C-4CA6-BBDF-175069FD2A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203F-F039-4C7A-9F40-5F2CCB3965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F492-B3C7-4C6F-8D04-474EC2015C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0BB5-FB34-487F-929C-CDFAD8838E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CCD0-AB8C-4F8F-A1F8-A59BEF5456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CDF6-A239-4343-844F-7A43C8E3C5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669A-6912-4804-AF32-B477ACF12F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E15-5F3B-4800-B729-B4D3B79FAC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8060-22B0-4B79-85FE-EBE5474AD0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CAAE-9BDA-480F-A31A-C04697AB33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A75-B0ED-477E-978A-44DA15EE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130-5C85-4474-8B32-3722236A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72E-1544-4B37-8C3B-989247DA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1AE-FDDA-4B09-A38A-02C870F8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84F-CB4E-440A-8179-1110B25D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56E-04D3-4B8F-BCD5-E7AE90C0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AC2-B45D-4E1D-BBFA-CBAF3F2C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164-C279-4C3F-A92D-A124DC4B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B2C-C065-4E10-BB5D-3B140C34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0B5-3956-4CBF-9862-AB83F3A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B11-D458-418A-9C3B-6ECAD54A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A1E-DCD5-4BB1-B422-7768DBD5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DEF7-4F5F-43DA-B037-7C4B57868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716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46C3-58F9-4A70-BF51-20EEB23BFF79}" type="slidenum">
              <a:rPr b="0" lang="en-US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ОПШТА АНЕСТЕЗИЈ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4060440"/>
            <a:ext cx="810576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2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Општи принципи, преоперативна медикација, монитор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</a:t>
            </a:r>
            <a:r>
              <a:rPr b="1" i="1" lang="en-US" sz="1400" spc="-1" strike="noStrike">
                <a:solidFill>
                  <a:srgbClr val="000000"/>
                </a:solidFill>
                <a:latin typeface="Palatino Linotype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5000" y="6180120"/>
            <a:ext cx="786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0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657E-73F2-491D-B7F6-6CF5E5458F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ремедик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01480" y="1879560"/>
            <a:ext cx="8153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употребу једног или више фармаколошких средстава пре увода у општу анестезију, а са циљем да се пацијент доведе у што оптималније психофизичко стање за анестезију и опера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љеви премедикације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тр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безбеђење аналг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рефлексне надражљ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е вредности базалног метаб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у усној дупљи и горњим дисајним путе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AB1F-1A38-4CE3-87A2-98B88264E9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Мониторинг општ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76280" y="1941480"/>
            <a:ext cx="8116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време опште ендотрахеалне анестезије континуирано се прате витални параметри пациј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ама реч мониторинг подразумева упозорење, скретање пажње, праћ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 у условима савремене анестезије не подразумева само праћење општег стања, већ и регистровање одређених поремећаја, њихово тумачење и предузимање одговарајућих мера за њихово отклањ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љ мониторинга је повећање пажње анестезиолога и помоћ при вођењу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D511-6BA2-4821-A8DD-5E651A376C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арт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7" name="Picture 8" descr="http://t2.gstatic.com/images?q=tbn:ANd9GcRsXPUqCjtDr2ot6kBmBXZO00bAMoXcKjsQvNkOoU2Uxv3SBm8z"/>
          <p:cNvPicPr/>
          <p:nvPr/>
        </p:nvPicPr>
        <p:blipFill>
          <a:blip r:embed="rId1"/>
          <a:stretch/>
        </p:blipFill>
        <p:spPr>
          <a:xfrm>
            <a:off x="1989000" y="2151000"/>
            <a:ext cx="51231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5380-B413-48D2-B685-D732BF8EDD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пшт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50720" y="1577880"/>
            <a:ext cx="8267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н естос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ез осећ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зија подразумева губитак свести или губитак осећаја за бол, или и једног и друг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ом анестетичког средства, функције ЦНС као што су свест и бол се депримир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тичка средства унета у организам доспевају до ЦНС и изазивају тзв. десцедентну депресију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Н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пре настаје депресија кортекса, затим базалних ганглија, малог мозга, кичмене мождине и тек на крају продужене можд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скакање медуларних центара омогућава примену О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6E3D-DD1B-4D26-BD90-52BEC254D3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пшта анестез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76280" y="1490760"/>
            <a:ext cx="8166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е карактеристике опште анестезије је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реф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осећаја за бол (аналгез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мишићног тонуса (мишићна релакс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ан, аналгезија и мишићна релаксација представљају основне елементе опште анестезије тзв. троугао опште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сваки од ових сегмената користе се посебна анестетичка сре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A5D0-FFF5-4AF4-8538-44EE0A8783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рипреме за општу анестезију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476280" y="1803240"/>
            <a:ext cx="8142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реме обухвата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рему пациј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рему апарата за анестезију и опреме за извођење О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рему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рипрема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427E-E801-471C-880C-350764EF0F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38120" y="1766880"/>
            <a:ext cx="8242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љ припреме јесте да се пацијент доведе у оптимално психофизичко стање како би, у току анестезије и операције, прошао што безбедн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ва припрема обухва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зимање анамнестичких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кални преглед пациј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познавање са резултатима лабораторијских и функционал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спитивања, рендген снимцима, ултразвучним прегледи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кенером, магнетном резонанцом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рипрема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8AC4-5998-44AE-8B44-24E92F2FD8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63680" y="1628640"/>
            <a:ext cx="8165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љ узимања анамнестичких података, а и каснијег физикалног прегледа, јесте да се преоперативно открије постојање неког другог обољења које би могло да компромитује анестезију и опера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начајни су подаци о претходним операцијама и анестез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рочито какву врсту анестезије је примао, како је поднео и да ли је било неких нежељених догађ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итан податак је и постојање алергије на неке лекове, посебно на оне који могу бити поново употребљ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ко се добије податак о постојању неког хроничног обољења, треба питати да ли пацијент узима лекове и да ли контролише бол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457D-A9A5-4FF0-A02C-3AB75A05F6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рипрема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50720" y="1690560"/>
            <a:ext cx="8167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кални преглед обухва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спекцију (главе и врата пре све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алпацију (абдоме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кусију  (грудног кош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ускултацију (срца и плућ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 анамнезе и прегледа, анестезиолог се упознаје са резултатима лабораторијских и функционалних испитивања, након чега доноси одлуку да ли је пацијент способан или не за увођење у општу ендотрахеалну анестези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1546-898C-4C60-B729-24C037301E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рипрема апарата и опреме за анестезију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Picture 8" descr="C:\Users\Zoran\Downloads\anestezija\imagesCA2R4VEC.jpg"/>
          <p:cNvPicPr/>
          <p:nvPr/>
        </p:nvPicPr>
        <p:blipFill>
          <a:blip r:embed="rId1"/>
          <a:stretch/>
        </p:blipFill>
        <p:spPr>
          <a:xfrm>
            <a:off x="5513400" y="1825560"/>
            <a:ext cx="2813040" cy="37450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250920" y="1916280"/>
            <a:ext cx="506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парат представља обавезан део поступка код свих врста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зиолог је дужан да пре него што приступи анестезији провери апарат за анестезију и осталу опрему која се користи у поступку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рема опреме обухвата: маске за вентилацију пацијента, амбу балон, ларингоскоп и тубусе за ендотрахеалну интуба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E5DE-547B-4D36-A46C-0E8D5176E7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Припрема леков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Picture 7" descr="imagesCAXCC1DB.jpg"/>
          <p:cNvPicPr/>
          <p:nvPr/>
        </p:nvPicPr>
        <p:blipFill>
          <a:blip r:embed="rId1"/>
          <a:stretch/>
        </p:blipFill>
        <p:spPr>
          <a:xfrm>
            <a:off x="3610080" y="1531800"/>
            <a:ext cx="5338800" cy="29512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163440" y="1741320"/>
            <a:ext cx="3481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створи свих анестетичких средстава треба да буду припремљени и правилно обележени, у одговарајућим бризгалицама и бочицама, и постављени на анестетички сточи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рема и обележавање треба да буду строго контролис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2-14T07:39:10Z</dcterms:modified>
  <cp:revision>771</cp:revision>
  <dc:subject/>
  <dc:title>NAZIV PREDAVANJA</dc:title>
</cp:coreProperties>
</file>